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C1B-09CC-433C-81E1-50441C30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CDF-3B37-4AA3-B1E9-E276C77A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D227-4B6F-4BA9-BC5F-E4A0A01E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486-691B-415C-A275-A09213BF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634-7BB2-4602-97EE-F45E4371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AB1-A583-4225-A281-4C98F261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2DE-445B-4794-92D0-5C3CC1D4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E50-9E23-4322-8D72-3E089058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84A-0842-4B70-8B03-6BBB7253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5C0-FF8F-41D6-AB94-5753C8CA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969-473A-432F-9FAE-5DD67E74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A39-E9CD-41D9-8CC9-9E21094F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0F01-59AF-4139-A2DB-E2B5C88E0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0968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Graph of a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080" y="2050920"/>
            <a:ext cx="8834400" cy="2764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1143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1.  </a:t>
            </a:r>
            <a:r>
              <a:rPr b="1" lang="en-US" sz="2400" spc="-1" strike="noStrike">
                <a:solidFill>
                  <a:srgbClr val="e13405"/>
                </a:solidFill>
                <a:latin typeface="Arial"/>
              </a:rPr>
              <a:t>Finish the statement of the following theor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05520" y="3505320"/>
            <a:ext cx="3809880" cy="1218960"/>
          </a:xfrm>
          <a:prstGeom prst="rect">
            <a:avLst/>
          </a:prstGeom>
          <a:solidFill>
            <a:srgbClr val="e429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038480"/>
            <a:ext cx="5410080" cy="685800"/>
          </a:xfrm>
          <a:prstGeom prst="rect">
            <a:avLst/>
          </a:prstGeom>
          <a:solidFill>
            <a:srgbClr val="e429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1631880"/>
            <a:ext cx="7238880" cy="4062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565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are graphs of fun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2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5652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are graphs of fun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1479600"/>
            <a:ext cx="5791320" cy="330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533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3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7-12-29T04:22:59Z</dcterms:modified>
  <cp:revision>3</cp:revision>
  <dc:subject/>
  <dc:title>Slide 1</dc:title>
</cp:coreProperties>
</file>